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900A-117A-4FA6-A0D8-6B2B90FC3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4FBC-A7EC-4367-9FA5-9C543D50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9C02-24C9-41A7-813B-7F78D93B3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E85B-14B7-4283-92BE-50A06EBCC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7215-5522-4280-A48D-A66E8608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FB2C-5812-4584-8278-BBB169A1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7914-E3F1-4675-8033-FE2DBCC9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EEDF-137B-407E-843B-EE85C0C9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DA70-FFFA-439F-A1C9-A0B82661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8375-804E-45C3-93A1-E36A3416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7E3C-8DE9-4D36-A5A5-31E79705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1511-DB3E-430E-983E-A15712D3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83DA-7EC8-42B3-8B15-18A3E56041F9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61 Hneď za rá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a chváli kvietok mal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táčí spev i slnka svi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my chceme v Božom me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svojmu dielu vykroči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neď za rána chváľme Pán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kojný nám doprial se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ieme zase v rannom čas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ítať piesňou nový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a chváli kvietok mal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táčí spev i slnka svi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my chceme v Božom me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svojmu dielu vykroč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mavou nocou svojou moc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 nad nami držal stráž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ovej sily, Pane mil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našej práci dať nám ráč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a chváli kvietok mal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táčí spev i slnka svi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my chceme v Božom me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svojmu dielu vykroč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môž, Pane, odhodla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áčať vpred, hoc ťaží kríž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tvrď vieru, veď nás k cieľ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aždú úzkosť duše stí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a chváli kvietok mal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táčí spev i slnka svi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my chcme v Božom me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svojmu dielu vykroč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aj v žial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rak sa kal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ostaň s nami, Pane ná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, chlieb z neba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š, čo treb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len radosť srdcu dáš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12T13:29:11Z</dcterms:modified>
  <cp:revision>66</cp:revision>
  <dc:subject/>
  <dc:title>Je veľký náš Pán, on slávy je Kráľ Nech do všetkých strán  spev vrúcnych znie chvál.</dc:title>
</cp:coreProperties>
</file>